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disorders: types, symptoms and trea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eeding/clotting disor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Disease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diseases are caused by abnormalities in the blood. These diseases are categorized by which component of the blood is affected. One of the most common blood disease worldwide is anemia, which is characterized by an abnormally low number of red blood cells or low levels of hemoglobin. Some anemias are the result of increased destruction of red blood cells, as in the case of sickle-cell anemia, a genetic disease most common in persons of African ancestry. Some white blood cell diseases are characterized by an insufficient number of white blood cells. These conditions result in severe immune deficiencies characterized by recurrent infections. Any disease in which excess white blood cells are produced, particularly immature white blood cells, is called leukemia.</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ur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uk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phil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uloc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igu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one of the most common blood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auses of leuk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emophil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leukemia develo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leuk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as leukemia referred to as “white blood” in the pa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uses T-cell leuk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reatments of leukemia?</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words in the text to fit the following description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ly to be affected by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or extre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to cause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dition of being very ti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yet fully develop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jury made by a blow or knock so that the skin is b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size of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ief supp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 of transferring an organ from one place on the body or from one person to anoth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a person, health etc. strong</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nouns from the following verb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eported speech in the following sentenc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neighbor has had a baby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said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visited Jane at her home and she seemed f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said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often do you take your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nted to k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Peter be able to finish his research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onder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en doesn’t know when she will be ready to go to hospit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said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must pass this exam if he wants to enroll in the second ye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n claimed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been suffering from a bad headache since 9 o’cl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girl told 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cannot come to the laboratory because he has a terrible co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told us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m learning anatomy because I am sitting for this exam next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told him th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was explaining to Jane about the side-effects of this drug the whole 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hought that....................................................................................</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A/AN or THE where necessary:</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n’t her fault. It was..............acci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pumps...........blood throughout............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didn’t feel well yesterday. She had.............pain in her b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sister has had...................bronchitis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red were taken to...............hospit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annot play tennis. He has................inflamed joi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body was hurt in................accident but................damage to............car was quite ba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been walking for three hours. We’ve got................sore feet.</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11:13:10Z</dcterms:modified>
  <cp:revision>23</cp:revision>
  <dc:subject/>
  <dc:title>Slide 1</dc:title>
</cp:coreProperties>
</file>